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mai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3480" y="482328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spcAft>
                <a:spcPts val="113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33480" y="486936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Per-Pixel Lighting Intro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19280" y="5521320"/>
            <a:ext cx="64008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 Dietri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.dietrich@nvidia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Normal Ma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6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mal Maps give us a per-pixel description of the surface normal vector of a surf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6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typically must convert a unit light vector into a color so that we can perform a per-pixel dot product in the register combiners or texture st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191120" y="31240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Light Vector to Colo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directly convert a light vector into a RGBA color and pass in as the diffuse ( primary color ) or specular ( secondary color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4343400"/>
            <a:ext cx="6095880" cy="1143000"/>
          </a:xfrm>
          <a:prstGeom prst="rtTriangl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6171840" y="4572000"/>
            <a:ext cx="1143000" cy="9144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295280" y="3962520"/>
            <a:ext cx="1219320" cy="3808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3962520"/>
            <a:ext cx="3657600" cy="609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038480" y="4267080"/>
            <a:ext cx="304920" cy="609840"/>
          </a:xfrm>
          <a:prstGeom prst="line">
            <a:avLst/>
          </a:prstGeom>
          <a:ln cap="sq" w="38160">
            <a:solidFill>
              <a:srgbClr val="b2b2b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Iterated Light Vector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has the disadvantage that the light vector will get shortened across large polyg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31240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d842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4343400"/>
            <a:ext cx="6095880" cy="1143000"/>
          </a:xfrm>
          <a:prstGeom prst="rtTriangl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6171840" y="4572000"/>
            <a:ext cx="1143000" cy="9144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295280" y="3962520"/>
            <a:ext cx="1219320" cy="3808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3962520"/>
            <a:ext cx="3657600" cy="609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038480" y="4267080"/>
            <a:ext cx="304920" cy="609840"/>
          </a:xfrm>
          <a:prstGeom prst="line">
            <a:avLst/>
          </a:prstGeom>
          <a:ln cap="sq" w="38160">
            <a:solidFill>
              <a:srgbClr val="b2b2b2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Normalization Cube Ma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8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use a Cube Map to renormalize your vectors on a per-pixel ba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 in the vectors as S,T,R 3D Texture coordin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ube Map is set up to turn S,T,R floating point numbers into the correct RGBA Norm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 flipH="1" flipV="1">
            <a:off x="3504960" y="3429000"/>
            <a:ext cx="228600" cy="457200"/>
          </a:xfrm>
          <a:prstGeom prst="line">
            <a:avLst/>
          </a:prstGeom>
          <a:ln w="414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33920" y="3886200"/>
            <a:ext cx="685800" cy="380880"/>
          </a:xfrm>
          <a:prstGeom prst="line">
            <a:avLst/>
          </a:prstGeom>
          <a:ln w="414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2590920"/>
            <a:ext cx="2438280" cy="2286000"/>
          </a:xfrm>
          <a:prstGeom prst="cube">
            <a:avLst>
              <a:gd name="adj" fmla="val 25000"/>
            </a:avLst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9720" y="3042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Visualizing the Vector Normalization Cube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6002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ube map is accessed via vectors expressed as 3D texture coordinates ( S, T, R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3886200"/>
            <a:ext cx="1066680" cy="0"/>
          </a:xfrm>
          <a:prstGeom prst="line">
            <a:avLst/>
          </a:prstGeom>
          <a:ln w="414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200400" y="3886200"/>
            <a:ext cx="533520" cy="457200"/>
          </a:xfrm>
          <a:prstGeom prst="line">
            <a:avLst/>
          </a:prstGeom>
          <a:ln w="414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733920" y="2971800"/>
            <a:ext cx="0" cy="914400"/>
          </a:xfrm>
          <a:prstGeom prst="line">
            <a:avLst/>
          </a:prstGeom>
          <a:ln w="414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55627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4864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lue Vector &lt; 0, 0, -8 &gt; is passed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reen Vector &lt; 0, 0, -1 &gt; is returned in RGBA form as  &lt; 0x80, 0x80, 0x00 &gt; or 0xff80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3657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S,+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R,-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2590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T,+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286000" y="4343400"/>
            <a:ext cx="914400" cy="762120"/>
          </a:xfrm>
          <a:prstGeom prst="line">
            <a:avLst/>
          </a:prstGeom>
          <a:ln w="414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Per Pixel Lighting / Bump Mapp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900080" y="1409760"/>
          <a:ext cx="53438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0080" y="1409760"/>
                    <a:ext cx="53438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Per-Pixel Light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561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-Pixel lighting is the next leap in visual quality after simple multi-textu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allows more apparent surface detail than would be possible with triangles al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x7 HW with DOT3 was a huge leap in per-pixel cap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x8 HW increases performance again, and adds completely new 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6076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A Single Quad Lit Per Pixel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905120" y="1447920"/>
          <a:ext cx="5676840" cy="52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447920"/>
                    <a:ext cx="5676840" cy="52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Per Pixel Lighting / Bump Mapp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8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mp Mapping is a subset of Per-Pixel Ligh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slides will discuss them interchangeab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older Bump Mapping examples were simply performing diffuse directional ligh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Bump Mapping / Per Pixel Lighting can be used to achieve diffuse and/or specular point lights, spotlights and volumetric lights as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Bump Maps == Normal Ma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2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ype of Bump Map employed by our examples is also known as a Normal M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95280" y="2819520"/>
          <a:ext cx="31244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819520"/>
                    <a:ext cx="31244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190512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ight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5780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l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876920" y="2819520"/>
          <a:ext cx="3047760" cy="304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819520"/>
                    <a:ext cx="304776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Normal Ma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4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l maps are simply RGBA textures where the R G and B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l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 range [0,1]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nterpreted as &lt; X, Y, Z &gt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it vector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range [-1, 1 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exel in the Normal Map texture is interpreted as the local unit surface norma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eight Maps To Normal Maps</a:t>
            </a: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take advantage of either per-pixel lighting, artists should generate Height Ma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Height Map is a grayscale image, either stored in the RGB or Alpha chann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te indicates ‘High’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lack indicates ‘Low’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y values represent values in betwe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DOT3 techniques, including bump mapping and per-pixel lighting, this height map must be converted into a Normal M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9720" y="30384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onverting Height Maps To Normal Ma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9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3 adjacent height samples to form a triangle in model space at each tex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this triangle’s normal into an RGB vector and store in a Normal Map Tex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an arbitrary scale factor that determines the relative scale of the height dimension compared to the s &amp; t texel dimen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scale values create taller triangles, thus more horizontal norm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Normal Map Tool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1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IDIA has developed three tools to assist in Normal Map conversion and gen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obe Photoshop Plug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utputs DDS fil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so supports compres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ariety of conversion types suppor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mp Maker To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orts .3ds files to view bump maps 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orts textures to turn into normal ma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ports Normal Maps as TGA fil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9T16:50:10Z</dcterms:created>
  <dc:creator>Sim Dietrich</dc:creator>
  <dc:description/>
  <dc:language>en-US</dc:language>
  <cp:lastModifiedBy>Cem Cebenoyan</cp:lastModifiedBy>
  <cp:lastPrinted>1999-07-08T00:11:36Z</cp:lastPrinted>
  <dcterms:modified xsi:type="dcterms:W3CDTF">2000-11-10T02:59:23Z</dcterms:modified>
  <cp:revision>10</cp:revision>
  <dc:subject/>
  <dc:title>Per-Pixel Lighting Intro</dc:title>
</cp:coreProperties>
</file>